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E30C-756F-4FD7-81B2-904DB91A550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omic Sans MS"/>
              </a:rPr>
              <a:t>Rh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YN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LUO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HAN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LGRYN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HI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HIF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EF4F-EF30-4063-84AD-D6E43BFFFA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RM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YNEGI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BY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AF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CDED-B4D3-4110-8430-DC6C53C8CEE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AFALI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HEBY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BY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EW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AF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G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2027-11BE-49B2-95D3-7F9AAB76888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MNEW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MLEIDD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RM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3BCE-0ABC-44B5-9EE9-0DD85D8D8D2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ARWYNEBEDD A MES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ED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Y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ETRY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YNE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565D-F780-42DA-995F-482A3C538B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ARWYNEBEDD A MES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ERIMED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TR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T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TR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LIMET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LIMETR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E601-25BC-4BDB-A113-B20C88E4ADE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ARWYNEBEDD A MES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P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YFA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LIMET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ONG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A5F4-07F7-48E0-B747-9164660486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ARWYNEBEDD A MES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G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ONG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ETRY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10A3-955E-473F-8B5E-88EC8D5DA85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Rhifau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BL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DR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DRIF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ILR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ILRIF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RM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HE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H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HIF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EDCE-62E3-4CF0-A72D-D1348F9E093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Rhifau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YSEF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ILR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DR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9B5B-8344-46D8-8AF7-066CBFB256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ML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YMED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4E94-CFFC-470E-A78C-A7E3308C31A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Degolion, Canrannau a Ffracsiyn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FRACSI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NR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WAD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WBL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11E8-73BB-452A-BC2D-D55FE07A5F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CHE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NOLR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MREDI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R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8D80-F114-4E96-9461-38678154A4B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RWAHAN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 –D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ROLW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ML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89B9-45D3-4837-B6EE-A0A2BF52835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GRADDFEYDD AC AMSERLEN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ADDF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RI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UN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MS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W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66B8-F2F6-4A55-9B7B-82AFAC5D79B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GRADDFEYDD AC AMSERLEN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MSER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MS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LSI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ILI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W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A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5E1C-C988-4013-978A-EF5B72F6845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TEBYGOLRWY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BYGOLRWY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BYG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HEBYG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HEBY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HE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8CB8-698D-43F4-BD5D-E84DE80610C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TEBYGOLRWY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C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SIC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GWYDDI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CEF6-A15C-4AC8-94C3-A70B77A188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Degolion, Canrannau a Ffracsiyn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GO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HIFIAD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HI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9F32-D552-459B-A308-9BFC8F52AC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Degolion, Canrannau a Ffracsiyn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AN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W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GF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H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EF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4DAF-9017-4B16-AFDF-A36949BB9D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Siapau 2D a cymesure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ONG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ENTA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G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ETRY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005D-289A-4340-A8D3-4B13A575E8D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Siapau 2D a cymesure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RALEL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CTA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G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328F-D244-4D86-92BA-E0889381E8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Siapau 2D a cymesure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PESIW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G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OES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W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ONG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RA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702D-F4CD-49E5-A98A-57B57B0319A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Siapau 2D a cymesure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NTIMETR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LIN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LINELL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LIMETR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A538-EEF0-4D2A-926B-584AB4D45B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ONGL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YL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F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TBLY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MY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G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GLY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1804-827A-4314-9544-45E8BB042D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753D-04FC-4B67-912B-4D2CCDCB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C9FC-0B28-43EA-9EFB-C723C06F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3A8E-51C2-42EE-93BF-52CFA63D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BCF5-EF27-4575-AD4B-21A978EC5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3B3E-A036-486A-9576-19CFBC37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A9F9-4338-4ECD-99DA-2743F54E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D4D4-D5B8-4CD9-BA63-C8E957AA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BB9E-8BF0-4A95-AAEC-C92C470F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6CEC-1A0C-40F6-974D-BE3D5E6E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72EE-14BE-4EAE-9463-55911E0D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611B-C8CE-4E00-8319-C5C6A388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BBD9-1A21-4649-B5D4-6E27CED4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5450-2217-41A9-A288-71CB8AD616E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H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H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F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F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F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H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H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6:53:30Z</dcterms:created>
  <dc:creator>Llinos</dc:creator>
  <dc:description/>
  <dc:language>en-US</dc:language>
  <cp:lastModifiedBy>Llinos</cp:lastModifiedBy>
  <dcterms:modified xsi:type="dcterms:W3CDTF">2009-10-04T18:48:08Z</dcterms:modified>
  <cp:revision>3</cp:revision>
  <dc:subject/>
  <dc:title>Slide 1</dc:title>
</cp:coreProperties>
</file>